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483-0631-4CC8-87EC-6F80CFD2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924-F461-4464-B589-77AF900B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F55-0522-4414-9A20-BF6EA1C4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96F-6A48-44DB-9C65-88125839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EB8-B9AD-4FD1-BDAA-CC2E3F49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CC8-CA22-4C05-942F-0CD0F1F6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5FB-E961-45CA-A416-4E817B59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175-09E8-477F-B8EA-CD28108F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37E-B685-44F1-A41D-D8D2FD7B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34E-2796-41CB-AA2E-C057B1B0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CE1-FC54-42FF-9FAB-7CCED364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C28-7E7B-4FE0-BD09-269000EA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3ED9-66C1-43C9-A414-DC1FD8315A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7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2.wmf"/><Relationship Id="rId7" Type="http://schemas.openxmlformats.org/officeDocument/2006/relationships/image" Target="../media/image3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1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3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408480" y="304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826920" y="4653000"/>
            <a:ext cx="746784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F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e lesson is for all of you to be able to sing the song with a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826920" y="2924280"/>
            <a:ext cx="746784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becaus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f you sing something you are 10 times more likely to remember it than if you just read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838080" y="1143000"/>
            <a:ext cx="746784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L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et simple songs in the target langu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:\Program Files\Microsoft Office\Media\CntCD1\ClipArt5\j0281710.wmf"/>
          <p:cNvPicPr/>
          <p:nvPr/>
        </p:nvPicPr>
        <p:blipFill>
          <a:blip r:embed="rId1"/>
          <a:stretch/>
        </p:blipFill>
        <p:spPr>
          <a:xfrm>
            <a:off x="1714680" y="0"/>
            <a:ext cx="1962000" cy="270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Program Files\Microsoft Office\Media\CntCD1\ClipArt5\j0281710.wmf"/>
          <p:cNvPicPr/>
          <p:nvPr/>
        </p:nvPicPr>
        <p:blipFill>
          <a:blip r:embed="rId2"/>
          <a:stretch/>
        </p:blipFill>
        <p:spPr>
          <a:xfrm>
            <a:off x="500040" y="0"/>
            <a:ext cx="1962000" cy="2709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4714920" y="500040"/>
            <a:ext cx="2114640" cy="2438280"/>
          </a:xfrm>
          <a:prstGeom prst="rect">
            <a:avLst/>
          </a:prstGeom>
          <a:ln w="0">
            <a:noFill/>
          </a:ln>
        </p:spPr>
      </p:pic>
      <p:sp>
        <p:nvSpPr>
          <p:cNvPr id="95" name="Up Arrow 4"/>
          <p:cNvSpPr/>
          <p:nvPr/>
        </p:nvSpPr>
        <p:spPr>
          <a:xfrm rot="2923800">
            <a:off x="4520160" y="1960920"/>
            <a:ext cx="571320" cy="107172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Up Arrow 5"/>
          <p:cNvSpPr/>
          <p:nvPr/>
        </p:nvSpPr>
        <p:spPr>
          <a:xfrm rot="18231000">
            <a:off x="6103800" y="1857240"/>
            <a:ext cx="573120" cy="1071720"/>
          </a:xfrm>
          <a:prstGeom prst="upArrow">
            <a:avLst>
              <a:gd name="adj1" fmla="val 50000"/>
              <a:gd name="adj2" fmla="val 4986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4" descr="j0345922"/>
          <p:cNvPicPr/>
          <p:nvPr/>
        </p:nvPicPr>
        <p:blipFill>
          <a:blip r:embed="rId4"/>
          <a:stretch/>
        </p:blipFill>
        <p:spPr>
          <a:xfrm>
            <a:off x="1214280" y="3286080"/>
            <a:ext cx="1643400" cy="3013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Program Files\Microsoft Office\Media\CntCD1\ClipArt5\j0281710.wmf"/>
          <p:cNvPicPr/>
          <p:nvPr/>
        </p:nvPicPr>
        <p:blipFill>
          <a:blip r:embed="rId5"/>
          <a:stretch/>
        </p:blipFill>
        <p:spPr>
          <a:xfrm>
            <a:off x="4643280" y="3500280"/>
            <a:ext cx="1962360" cy="2710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Program Files\Microsoft Office\Media\CntCD1\ClipArt5\j0281710.wmf"/>
          <p:cNvPicPr/>
          <p:nvPr/>
        </p:nvPicPr>
        <p:blipFill>
          <a:blip r:embed="rId6"/>
          <a:stretch/>
        </p:blipFill>
        <p:spPr>
          <a:xfrm>
            <a:off x="3429000" y="3500280"/>
            <a:ext cx="1962000" cy="2710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7"/>
          <a:stretch/>
        </p:blipFill>
        <p:spPr>
          <a:xfrm>
            <a:off x="6242040" y="3571920"/>
            <a:ext cx="2901960" cy="2033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8"/>
          <a:stretch/>
        </p:blipFill>
        <p:spPr>
          <a:xfrm>
            <a:off x="5715000" y="4824360"/>
            <a:ext cx="2901960" cy="20336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1"/>
          <p:cNvSpPr/>
          <p:nvPr/>
        </p:nvSpPr>
        <p:spPr>
          <a:xfrm>
            <a:off x="1107720" y="285768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a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6551280" y="1357200"/>
            <a:ext cx="23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anch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1250280" y="6334200"/>
            <a:ext cx="16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3750840" y="614376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a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7070040" y="633420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ie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1168920" y="285768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s-ES" sz="7200" spc="-1" strike="noStrike">
                <a:solidFill>
                  <a:srgbClr val="ff0000"/>
                </a:solidFill>
                <a:latin typeface="Comic Sans MS"/>
              </a:rPr>
              <a:t>MA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s-ES" sz="72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?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1428840" y="1428840"/>
            <a:ext cx="607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omic Sans MS"/>
              </a:rPr>
              <a:t>Watch the song being acted out in Spanis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omic Sans MS"/>
              </a:rPr>
              <a:t>(to hear the tune)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 rot="17962800">
            <a:off x="4638600" y="4627080"/>
            <a:ext cx="1325520" cy="9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 rot="11705400">
            <a:off x="4908240" y="3398400"/>
            <a:ext cx="1009440" cy="1071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 rot="13332600">
            <a:off x="2014200" y="3485880"/>
            <a:ext cx="1009800" cy="1071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Program Files\Microsoft Office\Media\CntCD1\ClipArt5\j0281710.wmf"/>
          <p:cNvPicPr/>
          <p:nvPr/>
        </p:nvPicPr>
        <p:blipFill>
          <a:blip r:embed="rId4"/>
          <a:stretch/>
        </p:blipFill>
        <p:spPr>
          <a:xfrm>
            <a:off x="1714680" y="1643040"/>
            <a:ext cx="930240" cy="1285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0" y="12142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on doigt et l’autre doigt je fais ceci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a main et l’autre main je fais ceci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on coude et l’autre coude je fais ce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on pied et l’autre pied je fais ce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2" descr="C:\Program Files\Microsoft Office\Media\CntCD1\ClipArt8\j0343747.wmf"/>
          <p:cNvPicPr/>
          <p:nvPr/>
        </p:nvPicPr>
        <p:blipFill>
          <a:blip r:embed="rId5"/>
          <a:stretch/>
        </p:blipFill>
        <p:spPr>
          <a:xfrm>
            <a:off x="1714680" y="214200"/>
            <a:ext cx="901440" cy="10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Program Files\Microsoft Office\Media\CntCD1\ClipArt8\j0343747.wmf"/>
          <p:cNvPicPr/>
          <p:nvPr/>
        </p:nvPicPr>
        <p:blipFill>
          <a:blip r:embed="rId6"/>
          <a:stretch/>
        </p:blipFill>
        <p:spPr>
          <a:xfrm rot="15954600">
            <a:off x="4763520" y="375840"/>
            <a:ext cx="900360" cy="10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Program Files\Microsoft Office\Media\CntCD1\ClipArt5\j0281710.wmf"/>
          <p:cNvPicPr/>
          <p:nvPr/>
        </p:nvPicPr>
        <p:blipFill>
          <a:blip r:embed="rId7"/>
          <a:stretch/>
        </p:blipFill>
        <p:spPr>
          <a:xfrm rot="10800000">
            <a:off x="4572000" y="1643040"/>
            <a:ext cx="930240" cy="128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8"/>
          <a:stretch/>
        </p:blipFill>
        <p:spPr>
          <a:xfrm>
            <a:off x="1571760" y="4857840"/>
            <a:ext cx="13255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0" y="150012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omic Sans MS"/>
              </a:rPr>
              <a:t>Je fais ceci, je fais ceci,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t je suis content.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43760" y="4071960"/>
            <a:ext cx="25002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214200" y="1214280"/>
            <a:ext cx="8929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on œil et l’autre œil je fais ceci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on oreille et l’autre oreille je fais ce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es dents et mes cheveux je fais ce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a langue et mon nez je fais ceci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1081080" cy="1071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4429080" y="285840"/>
            <a:ext cx="1081080" cy="1071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3"/>
          <a:stretch/>
        </p:blipFill>
        <p:spPr>
          <a:xfrm>
            <a:off x="2143080" y="1714680"/>
            <a:ext cx="77148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4"/>
          <a:stretch/>
        </p:blipFill>
        <p:spPr>
          <a:xfrm flipH="1">
            <a:off x="5571720" y="1714680"/>
            <a:ext cx="771480" cy="114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5"/>
          <a:stretch/>
        </p:blipFill>
        <p:spPr>
          <a:xfrm>
            <a:off x="5143680" y="3214800"/>
            <a:ext cx="1072800" cy="1090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6"/>
          <a:stretch/>
        </p:blipFill>
        <p:spPr>
          <a:xfrm>
            <a:off x="2143080" y="3357720"/>
            <a:ext cx="1138320" cy="1000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7"/>
          <a:stretch/>
        </p:blipFill>
        <p:spPr>
          <a:xfrm>
            <a:off x="2214720" y="4786200"/>
            <a:ext cx="831600" cy="932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8"/>
          <a:stretch/>
        </p:blipFill>
        <p:spPr>
          <a:xfrm>
            <a:off x="4357800" y="4714920"/>
            <a:ext cx="9954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0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0" y="150012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omic Sans MS"/>
              </a:rPr>
              <a:t>Je fais ceci, je fais ceci,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t je suis content.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6143760" y="4071960"/>
            <a:ext cx="25002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5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1" descr="C:\Program Files\Microsoft Office\Media\CntCD1\ClipArt5\j0281710.wmf"/>
          <p:cNvPicPr/>
          <p:nvPr/>
        </p:nvPicPr>
        <p:blipFill>
          <a:blip r:embed="rId1"/>
          <a:stretch/>
        </p:blipFill>
        <p:spPr>
          <a:xfrm flipH="1">
            <a:off x="1999800" y="4643280"/>
            <a:ext cx="1071720" cy="1357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:\Program Files\Microsoft Office\Media\CntCD1\ClipArt5\j0281710.wmf"/>
          <p:cNvPicPr/>
          <p:nvPr/>
        </p:nvPicPr>
        <p:blipFill>
          <a:blip r:embed="rId2"/>
          <a:stretch/>
        </p:blipFill>
        <p:spPr>
          <a:xfrm>
            <a:off x="928800" y="4643280"/>
            <a:ext cx="982440" cy="1357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0" y="128592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es mains et tes mains je fais ce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es hanches et tes hanches je fais ce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on dos et ton dos je fais ceci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es mains et mes pieds je danse le twis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3" descr="C:\Program Files\Microsoft Office\Media\CntCD1\ClipArt5\j0281710.wmf"/>
          <p:cNvPicPr/>
          <p:nvPr/>
        </p:nvPicPr>
        <p:blipFill>
          <a:blip r:embed="rId3"/>
          <a:stretch/>
        </p:blipFill>
        <p:spPr>
          <a:xfrm>
            <a:off x="5143680" y="0"/>
            <a:ext cx="982440" cy="1357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Program Files\Microsoft Office\Media\CntCD1\ClipArt5\j0281710.wmf"/>
          <p:cNvPicPr/>
          <p:nvPr/>
        </p:nvPicPr>
        <p:blipFill>
          <a:blip r:embed="rId4"/>
          <a:stretch/>
        </p:blipFill>
        <p:spPr>
          <a:xfrm>
            <a:off x="785880" y="0"/>
            <a:ext cx="982440" cy="1357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Program Files\Microsoft Office\Media\CntCD1\ClipArt5\j0281710.wmf"/>
          <p:cNvPicPr/>
          <p:nvPr/>
        </p:nvPicPr>
        <p:blipFill>
          <a:blip r:embed="rId5"/>
          <a:stretch/>
        </p:blipFill>
        <p:spPr>
          <a:xfrm flipH="1">
            <a:off x="4071600" y="0"/>
            <a:ext cx="1071720" cy="1357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Program Files\Microsoft Office\Media\CntCD1\ClipArt5\j0281710.wmf"/>
          <p:cNvPicPr/>
          <p:nvPr/>
        </p:nvPicPr>
        <p:blipFill>
          <a:blip r:embed="rId6"/>
          <a:stretch/>
        </p:blipFill>
        <p:spPr>
          <a:xfrm flipH="1">
            <a:off x="1856880" y="0"/>
            <a:ext cx="1071720" cy="1357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7"/>
          <a:stretch/>
        </p:blipFill>
        <p:spPr>
          <a:xfrm>
            <a:off x="1714680" y="1714680"/>
            <a:ext cx="1052280" cy="121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8"/>
          <a:stretch/>
        </p:blipFill>
        <p:spPr>
          <a:xfrm flipH="1">
            <a:off x="4642920" y="1785960"/>
            <a:ext cx="1000440" cy="121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j0345922"/>
          <p:cNvPicPr/>
          <p:nvPr/>
        </p:nvPicPr>
        <p:blipFill>
          <a:blip r:embed="rId9"/>
          <a:stretch/>
        </p:blipFill>
        <p:spPr>
          <a:xfrm>
            <a:off x="1500120" y="3286080"/>
            <a:ext cx="642960" cy="1179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j0345922"/>
          <p:cNvPicPr/>
          <p:nvPr/>
        </p:nvPicPr>
        <p:blipFill>
          <a:blip r:embed="rId10"/>
          <a:stretch/>
        </p:blipFill>
        <p:spPr>
          <a:xfrm>
            <a:off x="3929040" y="3214800"/>
            <a:ext cx="642960" cy="1179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11"/>
          <a:stretch/>
        </p:blipFill>
        <p:spPr>
          <a:xfrm>
            <a:off x="4714920" y="4929120"/>
            <a:ext cx="1170000" cy="819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12"/>
          <a:stretch/>
        </p:blipFill>
        <p:spPr>
          <a:xfrm flipH="1">
            <a:off x="6000840" y="4929120"/>
            <a:ext cx="1071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1643040" y="785880"/>
            <a:ext cx="5429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e danse le twist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e danse le twist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t je suis content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e danse le twist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e danse le twist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t je suis content.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2" descr="C:\Program Files\Microsoft Office\Media\CntCD1\ClipArt8\j0344853.wmf"/>
          <p:cNvPicPr/>
          <p:nvPr/>
        </p:nvPicPr>
        <p:blipFill>
          <a:blip r:embed="rId1"/>
          <a:stretch/>
        </p:blipFill>
        <p:spPr>
          <a:xfrm>
            <a:off x="7215120" y="714240"/>
            <a:ext cx="1236600" cy="1650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Program Files\Microsoft Office\Media\CntCD1\ClipArt8\j0344853.wmf"/>
          <p:cNvPicPr/>
          <p:nvPr/>
        </p:nvPicPr>
        <p:blipFill>
          <a:blip r:embed="rId2"/>
          <a:stretch/>
        </p:blipFill>
        <p:spPr>
          <a:xfrm>
            <a:off x="357120" y="3786120"/>
            <a:ext cx="1236600" cy="1650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7039080" y="4786200"/>
            <a:ext cx="1604880" cy="1409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142920" y="1857240"/>
            <a:ext cx="16048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8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7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6000"/>
                            </p:stCondLst>
                            <p:childTnLst>
                              <p:par>
                                <p:cTn id="4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9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3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6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ction Button: Return 2"/>
          <p:cNvSpPr/>
          <p:nvPr/>
        </p:nvSpPr>
        <p:spPr>
          <a:xfrm>
            <a:off x="2857680" y="1500120"/>
            <a:ext cx="3429000" cy="3857760"/>
          </a:xfrm>
          <a:custGeom>
            <a:avLst/>
            <a:gdLst>
              <a:gd name="textAreaLeft" fmla="*/ 222120 w 3429000"/>
              <a:gd name="textAreaRight" fmla="*/ 3206880 w 3429000"/>
              <a:gd name="textAreaTop" fmla="*/ 222120 h 3857760"/>
              <a:gd name="textAreaBottom" fmla="*/ 3635640 h 3857760"/>
            </a:gdLst>
            <a:ahLst/>
            <a:rect l="textAreaLeft" t="textAreaTop" r="textAreaRight" b="textAreaBottom"/>
            <a:pathLst>
              <a:path w="21600" h="24301">
                <a:moveTo>
                  <a:pt x="0" y="0"/>
                </a:moveTo>
                <a:lnTo>
                  <a:pt x="21600" y="0"/>
                </a:lnTo>
                <a:lnTo>
                  <a:pt x="21600" y="24301"/>
                </a:lnTo>
                <a:lnTo>
                  <a:pt x="0" y="24301"/>
                </a:lnTo>
                <a:close/>
              </a:path>
              <a:path fill="lightenLess" w="21600" h="243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1">
                <a:moveTo>
                  <a:pt x="21600" y="0"/>
                </a:moveTo>
                <a:lnTo>
                  <a:pt x="21600" y="24301"/>
                </a:lnTo>
                <a:lnTo>
                  <a:pt x="20200" y="22901"/>
                </a:lnTo>
                <a:lnTo>
                  <a:pt x="20200" y="1400"/>
                </a:lnTo>
                <a:close/>
              </a:path>
              <a:path fill="darkenLess" w="21600" h="24301">
                <a:moveTo>
                  <a:pt x="21600" y="24301"/>
                </a:moveTo>
                <a:lnTo>
                  <a:pt x="0" y="24301"/>
                </a:lnTo>
                <a:lnTo>
                  <a:pt x="1400" y="22901"/>
                </a:lnTo>
                <a:lnTo>
                  <a:pt x="20200" y="22901"/>
                </a:lnTo>
                <a:close/>
              </a:path>
              <a:path fill="lighten" w="21600" h="24301">
                <a:moveTo>
                  <a:pt x="0" y="243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1"/>
                </a:lnTo>
                <a:close/>
              </a:path>
              <a:path fill="darken" w="21600" h="24301">
                <a:moveTo>
                  <a:pt x="3794" y="8843"/>
                </a:moveTo>
                <a:lnTo>
                  <a:pt x="7301" y="8843"/>
                </a:lnTo>
                <a:lnTo>
                  <a:pt x="7301" y="14178"/>
                </a:lnTo>
                <a:cubicBezTo>
                  <a:pt x="7301" y="15101"/>
                  <a:pt x="8102" y="15832"/>
                  <a:pt x="9138" y="15832"/>
                </a:cubicBezTo>
                <a:lnTo>
                  <a:pt x="10800" y="15832"/>
                </a:lnTo>
                <a:cubicBezTo>
                  <a:pt x="11836" y="15832"/>
                  <a:pt x="12636" y="15101"/>
                  <a:pt x="12636" y="14178"/>
                </a:cubicBezTo>
                <a:lnTo>
                  <a:pt x="12636" y="8843"/>
                </a:lnTo>
                <a:lnTo>
                  <a:pt x="10800" y="8843"/>
                </a:lnTo>
                <a:lnTo>
                  <a:pt x="14308" y="5335"/>
                </a:lnTo>
                <a:lnTo>
                  <a:pt x="17981" y="8843"/>
                </a:lnTo>
                <a:lnTo>
                  <a:pt x="16144" y="8843"/>
                </a:lnTo>
                <a:lnTo>
                  <a:pt x="16144" y="14178"/>
                </a:lnTo>
                <a:cubicBezTo>
                  <a:pt x="16144" y="16946"/>
                  <a:pt x="13568" y="19505"/>
                  <a:pt x="10800" y="19505"/>
                </a:cubicBezTo>
                <a:lnTo>
                  <a:pt x="9138" y="19505"/>
                </a:lnTo>
                <a:cubicBezTo>
                  <a:pt x="6370" y="19505"/>
                  <a:pt x="3794" y="16946"/>
                  <a:pt x="3794" y="1417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826920" y="4508640"/>
            <a:ext cx="746784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F: by the end of the lesson is for all of you to be able to sing the song with a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826920" y="2852640"/>
            <a:ext cx="746784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because: if you sing something you are 10 times more likely to remember it than if you just read i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838080" y="1143000"/>
            <a:ext cx="746784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LT: meet simple songs in the target languag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1760" y="22860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visit objectiv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595520" y="0"/>
            <a:ext cx="4038480" cy="4286160"/>
          </a:xfrm>
          <a:prstGeom prst="rect">
            <a:avLst/>
          </a:prstGeom>
          <a:ln w="0">
            <a:noFill/>
          </a:ln>
        </p:spPr>
      </p:pic>
      <p:sp>
        <p:nvSpPr>
          <p:cNvPr id="46" name="Up Arrow 2"/>
          <p:cNvSpPr/>
          <p:nvPr/>
        </p:nvSpPr>
        <p:spPr>
          <a:xfrm rot="18574200">
            <a:off x="5005800" y="4137840"/>
            <a:ext cx="912960" cy="118440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2390040" y="5357880"/>
            <a:ext cx="372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e coud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86560" y="682560"/>
            <a:ext cx="15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enar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0" y="18572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0" spc="-1" strike="noStrike">
                <a:solidFill>
                  <a:srgbClr val="3333cc"/>
                </a:solidFill>
                <a:latin typeface="Comic Sans MS"/>
              </a:rPr>
              <a:t>CHANTEZ!!!</a:t>
            </a:r>
            <a:endParaRPr b="0" lang="en-US" sz="1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2071800" y="0"/>
            <a:ext cx="5181480" cy="5135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528360" y="5288040"/>
            <a:ext cx="281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L’œil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928960" y="142920"/>
            <a:ext cx="3657600" cy="4102200"/>
          </a:xfrm>
          <a:prstGeom prst="rect">
            <a:avLst/>
          </a:prstGeom>
          <a:ln w="0">
            <a:noFill/>
          </a:ln>
        </p:spPr>
      </p:pic>
      <p:sp>
        <p:nvSpPr>
          <p:cNvPr id="51" name="Up Arrow 2"/>
          <p:cNvSpPr/>
          <p:nvPr/>
        </p:nvSpPr>
        <p:spPr>
          <a:xfrm rot="2935800">
            <a:off x="3233880" y="3499920"/>
            <a:ext cx="1244880" cy="232236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926000" y="5214960"/>
            <a:ext cx="529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La langue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714760" y="363600"/>
            <a:ext cx="3471840" cy="4003560"/>
          </a:xfrm>
          <a:prstGeom prst="rect">
            <a:avLst/>
          </a:prstGeom>
          <a:ln w="0">
            <a:noFill/>
          </a:ln>
        </p:spPr>
      </p:pic>
      <p:sp>
        <p:nvSpPr>
          <p:cNvPr id="54" name="Up Arrow 2"/>
          <p:cNvSpPr/>
          <p:nvPr/>
        </p:nvSpPr>
        <p:spPr>
          <a:xfrm rot="2923800">
            <a:off x="2074680" y="2404800"/>
            <a:ext cx="924120" cy="1758960"/>
          </a:xfrm>
          <a:prstGeom prst="upArrow">
            <a:avLst>
              <a:gd name="adj1" fmla="val 50000"/>
              <a:gd name="adj2" fmla="val 4992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Up Arrow 3"/>
          <p:cNvSpPr/>
          <p:nvPr/>
        </p:nvSpPr>
        <p:spPr>
          <a:xfrm rot="18231000">
            <a:off x="5240160" y="2351160"/>
            <a:ext cx="923760" cy="1758960"/>
          </a:xfrm>
          <a:prstGeom prst="upArrow">
            <a:avLst>
              <a:gd name="adj1" fmla="val 50000"/>
              <a:gd name="adj2" fmla="val 4994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678680" y="5286240"/>
            <a:ext cx="545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Les hanche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j0345922"/>
          <p:cNvPicPr/>
          <p:nvPr/>
        </p:nvPicPr>
        <p:blipFill>
          <a:blip r:embed="rId1"/>
          <a:stretch/>
        </p:blipFill>
        <p:spPr>
          <a:xfrm>
            <a:off x="3214800" y="285840"/>
            <a:ext cx="2643120" cy="4846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2850120" y="5286240"/>
            <a:ext cx="32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Le do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5"/>
          <p:cNvSpPr/>
          <p:nvPr/>
        </p:nvSpPr>
        <p:spPr>
          <a:xfrm>
            <a:off x="2390040" y="5357880"/>
            <a:ext cx="372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e coud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886000" y="3571920"/>
            <a:ext cx="281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L’œil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-145800" y="3571920"/>
            <a:ext cx="529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La langue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3464280" y="500040"/>
            <a:ext cx="545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Les hanche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421200" y="1357200"/>
            <a:ext cx="32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Le do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2194920" y="2643120"/>
            <a:ext cx="529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cc"/>
                </a:solidFill>
                <a:latin typeface="Comic Sans MS"/>
              </a:rPr>
              <a:t>Jacques a dit..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Program Files\Microsoft Office\Media\CntCD1\ClipArt8\j0343747.wmf"/>
          <p:cNvPicPr/>
          <p:nvPr/>
        </p:nvPicPr>
        <p:blipFill>
          <a:blip r:embed="rId1"/>
          <a:stretch/>
        </p:blipFill>
        <p:spPr>
          <a:xfrm>
            <a:off x="1500120" y="928800"/>
            <a:ext cx="1973160" cy="2367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Program Files\Microsoft Office\Media\CntCD1\ClipArt5\j0281710.wmf"/>
          <p:cNvPicPr/>
          <p:nvPr/>
        </p:nvPicPr>
        <p:blipFill>
          <a:blip r:embed="rId2"/>
          <a:stretch/>
        </p:blipFill>
        <p:spPr>
          <a:xfrm>
            <a:off x="5572080" y="714240"/>
            <a:ext cx="1962360" cy="2710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1071720" y="3500280"/>
            <a:ext cx="2490480" cy="2643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5715000" y="4071960"/>
            <a:ext cx="2901960" cy="2033640"/>
          </a:xfrm>
          <a:prstGeom prst="rect">
            <a:avLst/>
          </a:prstGeom>
          <a:ln w="0">
            <a:noFill/>
          </a:ln>
        </p:spPr>
      </p:pic>
      <p:sp>
        <p:nvSpPr>
          <p:cNvPr id="69" name="Up Arrow 8"/>
          <p:cNvSpPr/>
          <p:nvPr/>
        </p:nvSpPr>
        <p:spPr>
          <a:xfrm rot="18574200">
            <a:off x="3183480" y="5869440"/>
            <a:ext cx="561960" cy="738000"/>
          </a:xfrm>
          <a:prstGeom prst="up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1474200" y="35712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oig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5740920" y="35712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808200" y="6072120"/>
            <a:ext cx="20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u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394680" y="6000840"/>
            <a:ext cx="175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i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642960" y="285768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0" y="2643120"/>
            <a:ext cx="1843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1168920" y="285768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s-ES" sz="7200" spc="-1" strike="noStrike">
                <a:solidFill>
                  <a:srgbClr val="ff0000"/>
                </a:solidFill>
                <a:latin typeface="Comic Sans MS"/>
              </a:rPr>
              <a:t>MA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s-ES" sz="72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?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1752480" cy="1736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3500280" y="1428840"/>
            <a:ext cx="1324080" cy="19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5715000" y="1143000"/>
            <a:ext cx="1895400" cy="1924200"/>
          </a:xfrm>
          <a:prstGeom prst="rect">
            <a:avLst/>
          </a:prstGeom>
          <a:ln w="0">
            <a:noFill/>
          </a:ln>
        </p:spPr>
      </p:pic>
      <p:sp>
        <p:nvSpPr>
          <p:cNvPr id="80" name="Up Arrow 6"/>
          <p:cNvSpPr/>
          <p:nvPr/>
        </p:nvSpPr>
        <p:spPr>
          <a:xfrm rot="2935800">
            <a:off x="5736600" y="2501640"/>
            <a:ext cx="714240" cy="1143000"/>
          </a:xfrm>
          <a:prstGeom prst="up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Up Arrow 7"/>
          <p:cNvSpPr/>
          <p:nvPr/>
        </p:nvSpPr>
        <p:spPr>
          <a:xfrm rot="14217600">
            <a:off x="7673400" y="610920"/>
            <a:ext cx="714240" cy="1143000"/>
          </a:xfrm>
          <a:prstGeom prst="up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4"/>
          <a:stretch/>
        </p:blipFill>
        <p:spPr>
          <a:xfrm>
            <a:off x="2643120" y="3854520"/>
            <a:ext cx="1800360" cy="2019240"/>
          </a:xfrm>
          <a:prstGeom prst="rect">
            <a:avLst/>
          </a:prstGeom>
          <a:ln w="0">
            <a:noFill/>
          </a:ln>
        </p:spPr>
      </p:pic>
      <p:sp>
        <p:nvSpPr>
          <p:cNvPr id="83" name="Up Arrow 10"/>
          <p:cNvSpPr/>
          <p:nvPr/>
        </p:nvSpPr>
        <p:spPr>
          <a:xfrm rot="2935800">
            <a:off x="2807640" y="5641560"/>
            <a:ext cx="714600" cy="114300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5"/>
          <a:stretch/>
        </p:blipFill>
        <p:spPr>
          <a:xfrm>
            <a:off x="5286240" y="4714920"/>
            <a:ext cx="1884600" cy="18954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3"/>
          <p:cNvSpPr/>
          <p:nvPr/>
        </p:nvSpPr>
        <p:spPr>
          <a:xfrm>
            <a:off x="836640" y="642960"/>
            <a:ext cx="15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œ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3702600" y="571680"/>
            <a:ext cx="206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eil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4653720" y="3429000"/>
            <a:ext cx="190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6804000" y="21420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heveu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17"/>
          <p:cNvSpPr/>
          <p:nvPr/>
        </p:nvSpPr>
        <p:spPr>
          <a:xfrm>
            <a:off x="732960" y="607212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ang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7261200" y="6000840"/>
            <a:ext cx="16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1168920" y="285768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s-ES" sz="7200" spc="-1" strike="noStrike">
                <a:solidFill>
                  <a:srgbClr val="ff0000"/>
                </a:solidFill>
                <a:latin typeface="Comic Sans MS"/>
              </a:rPr>
              <a:t>MA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s-ES" sz="72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?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4:44:39Z</dcterms:created>
  <dc:creator>Susie</dc:creator>
  <dc:description/>
  <dc:language>en-US</dc:language>
  <cp:lastModifiedBy>Barbara</cp:lastModifiedBy>
  <dcterms:modified xsi:type="dcterms:W3CDTF">2010-02-21T00:20:37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